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D32-796A-4FEF-9093-95977208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CB1-EB1D-4632-B2A8-9242242A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232-FFCC-4063-9CB2-CBD11AA6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F91-B83A-457C-A30F-96E279E4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246-F5A5-44DB-ADA2-84AD06EB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9DA-E7C7-4169-B3AA-9E86E712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B7C-B3B6-45EF-90FF-01C2F0E5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EA8-7834-4C07-BD3A-F7FD8834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1FC-8B13-478A-9C70-A50E338A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8F8-445D-4BFF-BCFE-B28C507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7AE-5CAC-49DD-B4EA-D5E1868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C86-DCA7-4614-A6F3-4940228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30B7-F5A3-4ABF-A624-EE7FEB55388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8 Čo ja ti d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ja ti dám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u stojím s rukou prázd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mám už slo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ĺkne piesne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tebou, Pane, 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m len hlinou már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rosbou sa blíži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tvoj slávy tr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 ťažkých skúška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raz vieru strác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daj mi silu načerp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om mnou stá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ivný môj Radc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nemôžem si nad to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ac už pri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34:17Z</dcterms:modified>
  <cp:revision>21</cp:revision>
  <dc:subject/>
  <dc:title>Je veľký náš Pán, on slávy je Kráľ Nech do všetkých strán  spev vrúcnych znie chvál.</dc:title>
</cp:coreProperties>
</file>